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682-B74C-4DC7-B20A-24D410D4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701-A72E-41D6-B358-763E7DE8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5D9-9232-4CE1-84C6-9EBA194B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333-D935-439C-8086-B43C15A0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F1D-901B-4C44-ABC7-A6817314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2E1-D750-4481-86E6-78129F0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46D-4405-41D0-AE78-159BC4FE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F3C-AF71-4667-82EE-CE8E47A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7D1-479D-4D14-993C-E4C02EBE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C28-BFED-490A-B0EB-F4F1091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2E2-A056-4A45-BD3B-11A8A0C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116-90B3-4575-B6E3-3231E1E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5AA3-DEDF-48A1-B5DE-34377B104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3" descr=""/>
          <p:cNvPicPr/>
          <p:nvPr/>
        </p:nvPicPr>
        <p:blipFill>
          <a:blip r:embed="rId1"/>
          <a:stretch/>
        </p:blipFill>
        <p:spPr>
          <a:xfrm>
            <a:off x="603360" y="152280"/>
            <a:ext cx="8205840" cy="340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032_"/>
          <p:cNvPicPr/>
          <p:nvPr/>
        </p:nvPicPr>
        <p:blipFill>
          <a:blip r:embed="rId2"/>
          <a:stretch/>
        </p:blipFill>
        <p:spPr>
          <a:xfrm>
            <a:off x="3733920" y="3124080"/>
            <a:ext cx="2057400" cy="2001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219320" y="5257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spero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na criad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eng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 mi casa.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795680" y="563868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s necesario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lguien l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impi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233360" y="601992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udo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ngamo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astante dinero. </a:t>
            </a:r>
            <a:r>
              <a:rPr b="1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5"/>
          <p:cNvSpPr/>
          <p:nvPr/>
        </p:nvSpPr>
        <p:spPr>
          <a:xfrm>
            <a:off x="1618560" y="152280"/>
            <a:ext cx="5974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s importante qu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tede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cuerd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 Formación del Subjuntivo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3429000"/>
          <a:ext cx="6629400" cy="27432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600200"/>
                <a:gridCol w="190476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-a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ar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-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er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-i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ir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ú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l, ella, Ud.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sotr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m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mos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los, ellas, Uds.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l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n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n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rib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n</a:t>
                      </a:r>
                      <a:endParaRPr b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185"/>
          <p:cNvSpPr/>
          <p:nvPr/>
        </p:nvSpPr>
        <p:spPr>
          <a:xfrm>
            <a:off x="1163880" y="1066680"/>
            <a:ext cx="6820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 u="sng">
                <a:solidFill>
                  <a:srgbClr val="000000"/>
                </a:solidFill>
                <a:uFillTx/>
                <a:latin typeface="Arial"/>
              </a:rPr>
              <a:t>Es necesario que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empiecen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con “yo” en el presente indicativo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Por ejemplo:   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cantar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           canto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ego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saquen el -o y añadan el vocal opuesto (-ar       e;  -er/-ir        a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Es necesario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que yo cant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Line 186"/>
          <p:cNvSpPr/>
          <p:nvPr/>
        </p:nvSpPr>
        <p:spPr>
          <a:xfrm>
            <a:off x="40384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190"/>
          <p:cNvSpPr/>
          <p:nvPr/>
        </p:nvSpPr>
        <p:spPr>
          <a:xfrm>
            <a:off x="2218320" y="6324480"/>
            <a:ext cx="42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pero qu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p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cer el subjuntivo!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necesario que usen todos los cambios del presente en la forma y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62120"/>
            <a:ext cx="2362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425400" y="1231920"/>
            <a:ext cx="517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bos con cambios radic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e   perd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a, etc.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 ped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, etc.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e dorm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e jug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640" y="2560680"/>
            <a:ext cx="271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o verbs: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í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i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n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n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i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lg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145880" y="914400"/>
            <a:ext cx="4472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 los verbos irregular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é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y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os Usos</a:t>
            </a:r>
            <a:br>
              <a:rPr sz="3200"/>
            </a:b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10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Quiero que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siempre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usen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l subjuntivo en estes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W.E.D.D.I.N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orgi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ishing, Wanting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ear que…, querer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motion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rar que…, alegrarse que,…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oubt, Denial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udar que…, Negar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sbelief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reer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mpersonal Expression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 importante que…, Es necesario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gation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hay nadie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od Grant: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jalá q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M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pr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Times New Roman"/>
              </a:rPr>
              <a:t>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-34200" y="1371600"/>
            <a:ext cx="927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ero que ella ____________(escribir) la tarea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necesario que los estudiantes ____________(estudi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do que nosotros ____________(cenar) hoy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aestra espera que nosotros ___________(termin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adre prohibe que sus hijas __________ (habl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jalá que mi mamá me ____________ (regalar) dinero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reo que Uds. ____________(mentir e-&gt;ie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mejor que mis abuelos me ____________(llamar)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ro que tú ____________(limpiar) tu cuarto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 le aconsejo a Juan que no __________ (trabajar) tanto.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ro que Cristina no le ________ (contar) la verdad a Carlos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olicía mande que los ladrónes ________ (dejar) del auto. 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ra quiere que Juanes le ______ (cantar) una canción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dArt 4" descr=""/>
          <p:cNvPicPr/>
          <p:nvPr/>
        </p:nvPicPr>
        <p:blipFill>
          <a:blip r:embed="rId1"/>
          <a:stretch/>
        </p:blipFill>
        <p:spPr>
          <a:xfrm>
            <a:off x="907920" y="0"/>
            <a:ext cx="721836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42:43Z</dcterms:created>
  <dc:creator>SHS</dc:creator>
  <dc:description/>
  <dc:language>en-US</dc:language>
  <cp:lastModifiedBy>Jessica Kaplan</cp:lastModifiedBy>
  <cp:lastPrinted>2007-11-29T13:16:25Z</cp:lastPrinted>
  <dcterms:modified xsi:type="dcterms:W3CDTF">2012-02-01T13:18:39Z</dcterms:modified>
  <cp:revision>74</cp:revision>
  <dc:subject/>
  <dc:title>PowerPoint Presentation</dc:title>
</cp:coreProperties>
</file>